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AA0034-DB69-407A-9D8E-DEFCEF4D1C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E7A13-BE03-4D36-9FB7-248DE1E69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AEB98-6142-4217-B6F9-668BC8D56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ED351F-AC4C-4173-9A40-90A46C2460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30FC9D-FD53-4E62-A2FB-30D33A3BBE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3CB103-5EA6-4BB2-9A9F-5F6695EE9F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277F39-4AED-476E-B8A5-574BA20772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F8C1EC-E024-4BEB-BEC2-EBCDC15FA8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56E956-068C-4F6A-9D0F-4D0D246DF0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363644-BF6C-450A-A133-72306E9311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95850-92B6-4BF9-9B7F-5C3CC2924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4FC92-2F4D-461A-9CB3-9138064E5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D0C7B-76F5-4888-A24F-3FDDB8CC9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8DFAE-C725-4540-875C-C1AD214CB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656630-0722-4EB1-A9A4-8EE878BCF7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FB702B-426D-4499-8AC2-3E01B02C0F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3001F1-961C-4159-866A-578ED660E3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142A2-9E22-4402-B578-631C6A4ED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A7379-4A48-4FBD-A8FA-B003B7A83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A1C97-7A61-49B4-9762-0738B59CF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2DA61-BA95-408D-B155-4ED91ABC5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B018B-74FE-4C7B-9F1B-4ACB133B4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F0677-D25F-4A93-8731-EC046652F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A0FC2-BF0F-4F9F-AE1B-261F8C5C5C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5EEE8-46CD-4C9E-BF5F-DCF2E637E218}"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6116F-CD12-41B3-8089-731B087B408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455B0-FD44-4F0E-961A-80890B814124}"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CCE15-BCA2-4A64-9B49-2B2B14C19D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C82DF-552D-443E-8E78-FFB8EA7818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692280"/>
            <a:ext cx="7848360" cy="1800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八章</a:t>
            </a:r>
            <a:r>
              <a:rPr b="1" lang="en-US" sz="3600" spc="-1" strike="noStrike">
                <a:solidFill>
                  <a:srgbClr val="ac0000"/>
                </a:solidFill>
                <a:latin typeface="黑体"/>
                <a:ea typeface="黑体"/>
              </a:rPr>
              <a:t>  </a:t>
            </a:r>
            <a:r>
              <a:rPr b="1" lang="zh-CN" sz="3600" spc="-1" strike="noStrike">
                <a:solidFill>
                  <a:srgbClr val="ac0000"/>
                </a:solidFill>
                <a:latin typeface="黑体"/>
                <a:ea typeface="黑体"/>
              </a:rPr>
              <a:t>消费者群体与意见领袖</a:t>
            </a:r>
            <a:endParaRPr b="1" lang="en-US" sz="3600" spc="-1" strike="noStrike">
              <a:solidFill>
                <a:srgbClr val="330066"/>
              </a:solidFill>
              <a:latin typeface="Arial"/>
            </a:endParaRPr>
          </a:p>
        </p:txBody>
      </p:sp>
      <p:sp>
        <p:nvSpPr>
          <p:cNvPr id="152" name="Rectangle 4"/>
          <p:cNvSpPr/>
          <p:nvPr/>
        </p:nvSpPr>
        <p:spPr>
          <a:xfrm>
            <a:off x="1187280" y="2349360"/>
            <a:ext cx="695808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群体特征与分类</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群体规范与群体压力</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参照群体与意见领袖</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模仿、从众与消费流行</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1A668-7404-4E78-9591-EE2F0972620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矩形 3"/>
          <p:cNvSpPr/>
          <p:nvPr/>
        </p:nvSpPr>
        <p:spPr>
          <a:xfrm>
            <a:off x="2089440" y="907920"/>
            <a:ext cx="3594600" cy="630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群体规范与群体压力</a:t>
            </a:r>
            <a:endParaRPr b="0" lang="en-US" sz="3200" spc="-1" strike="noStrike">
              <a:solidFill>
                <a:srgbClr val="000000"/>
              </a:solidFill>
              <a:latin typeface="Arial"/>
            </a:endParaRPr>
          </a:p>
        </p:txBody>
      </p:sp>
      <p:sp>
        <p:nvSpPr>
          <p:cNvPr id="194" name="TextBox 5"/>
          <p:cNvSpPr/>
          <p:nvPr/>
        </p:nvSpPr>
        <p:spPr>
          <a:xfrm>
            <a:off x="1692360" y="1954080"/>
            <a:ext cx="5560920" cy="4390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规范</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群体压力</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群体的内部沟通</a:t>
            </a:r>
            <a:endParaRPr b="0" lang="en-US" sz="30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4E35B-B0A7-47C8-B198-88FEAD00D2D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矩形 4"/>
          <p:cNvSpPr/>
          <p:nvPr/>
        </p:nvSpPr>
        <p:spPr>
          <a:xfrm>
            <a:off x="544680" y="1413000"/>
            <a:ext cx="7988040" cy="294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规范</a:t>
            </a:r>
            <a:endParaRPr b="0" lang="en-US" sz="2400" spc="-1" strike="noStrike">
              <a:solidFill>
                <a:srgbClr val="000000"/>
              </a:solidFill>
              <a:latin typeface="Arial"/>
            </a:endParaRPr>
          </a:p>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指在某一特定群体活动中，被认为是合适的成员行为的一种期望，是群体所确立的一种标准化的观念。</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成文规范：一般由组织正式规定，通过制定明确的书面条文以行政、政策乃至法律的手段来为成员提供行为标准，强制性地影响着消费者的心理与行为</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成文规范：群体成员所认同的文化与习俗对于个体的约束，其作用形式表现为通过群体压力迫使消费者调整自身行为，以适应、顺从群体的要求</a:t>
            </a:r>
            <a:endParaRPr b="0" lang="en-US" sz="2000" spc="-1" strike="noStrike">
              <a:solidFill>
                <a:srgbClr val="000000"/>
              </a:solidFill>
              <a:latin typeface="Arial"/>
            </a:endParaRPr>
          </a:p>
        </p:txBody>
      </p:sp>
      <p:sp>
        <p:nvSpPr>
          <p:cNvPr id="198" name="矩形 5"/>
          <p:cNvSpPr/>
          <p:nvPr/>
        </p:nvSpPr>
        <p:spPr>
          <a:xfrm>
            <a:off x="1042920" y="317520"/>
            <a:ext cx="51548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规范</a:t>
            </a: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E0CB2-DAC9-44FB-A759-2EDADA98304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矩形 3"/>
          <p:cNvSpPr/>
          <p:nvPr/>
        </p:nvSpPr>
        <p:spPr>
          <a:xfrm>
            <a:off x="900000" y="333360"/>
            <a:ext cx="645336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群体压力</a:t>
            </a:r>
            <a:endParaRPr b="0" lang="en-US" sz="3200" spc="-1" strike="noStrike">
              <a:solidFill>
                <a:srgbClr val="000000"/>
              </a:solidFill>
              <a:latin typeface="Arial"/>
            </a:endParaRPr>
          </a:p>
        </p:txBody>
      </p:sp>
      <p:sp>
        <p:nvSpPr>
          <p:cNvPr id="202" name="矩形 5"/>
          <p:cNvSpPr/>
          <p:nvPr/>
        </p:nvSpPr>
        <p:spPr>
          <a:xfrm>
            <a:off x="468360" y="1773360"/>
            <a:ext cx="7986600" cy="163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压力</a:t>
            </a:r>
            <a:endParaRPr b="0" lang="en-US" sz="24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任何社会群体都会对与之有关或所属的消费者心理产生一定的影响。这种影响往往是通过具体的信念、价值观和群体规范对消费者形成一种无形的压力或约束力，我们把这种压力称之为群体压力</a:t>
            </a:r>
            <a:endParaRPr b="0" lang="en-US" sz="2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D4294-F2BC-47D5-B4BB-C5880A67AB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矩形 3"/>
          <p:cNvSpPr/>
          <p:nvPr/>
        </p:nvSpPr>
        <p:spPr>
          <a:xfrm>
            <a:off x="500040" y="642960"/>
            <a:ext cx="74566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群体的内部沟通</a:t>
            </a:r>
            <a:endParaRPr b="0" lang="en-US" sz="3200" spc="-1" strike="noStrike">
              <a:solidFill>
                <a:srgbClr val="000000"/>
              </a:solidFill>
              <a:latin typeface="Arial"/>
            </a:endParaRPr>
          </a:p>
        </p:txBody>
      </p:sp>
      <p:sp>
        <p:nvSpPr>
          <p:cNvPr id="206" name="矩形 5"/>
          <p:cNvSpPr/>
          <p:nvPr/>
        </p:nvSpPr>
        <p:spPr>
          <a:xfrm>
            <a:off x="1763640" y="1413000"/>
            <a:ext cx="6769080" cy="46054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800" spc="-1" strike="noStrike">
                <a:solidFill>
                  <a:srgbClr val="000000"/>
                </a:solidFill>
                <a:latin typeface="黑体"/>
                <a:ea typeface="黑体"/>
              </a:rPr>
              <a:t>积极沟通</a:t>
            </a:r>
            <a:endParaRPr b="0" lang="en-US" sz="2800" spc="-1" strike="noStrike">
              <a:solidFill>
                <a:srgbClr val="000000"/>
              </a:solidFill>
              <a:latin typeface="Arial"/>
            </a:endParaRPr>
          </a:p>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消极沟通</a:t>
            </a:r>
            <a:endParaRPr b="0" lang="en-US" sz="28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抱怨</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话</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投诉</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参照群体与意见领袖</a:t>
            </a:r>
            <a:endParaRPr b="1" lang="en-US" sz="3200" spc="-1" strike="noStrike">
              <a:solidFill>
                <a:srgbClr val="330066"/>
              </a:solidFill>
              <a:latin typeface="Arial"/>
            </a:endParaRPr>
          </a:p>
        </p:txBody>
      </p:sp>
      <p:sp>
        <p:nvSpPr>
          <p:cNvPr id="208"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参照群体</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意见领袖</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89246-10D5-4C11-AE54-A94CD6A689F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E7830-E147-4794-8C99-44F2EF6811E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矩形 3"/>
          <p:cNvSpPr/>
          <p:nvPr/>
        </p:nvSpPr>
        <p:spPr>
          <a:xfrm>
            <a:off x="539640" y="285840"/>
            <a:ext cx="7920000" cy="47124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定义</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参照群体是指一种实际存在的或想象存在的，可作为个体判断事物的依据或楷模的群体。它并非某一成员身份所属的群体，但却被某一成员用做其所属群体的参照对象。</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类型</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准则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比较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否定群体</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98818-CFE0-4AFC-95FD-D54C6024B26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矩形 3"/>
          <p:cNvSpPr/>
          <p:nvPr/>
        </p:nvSpPr>
        <p:spPr>
          <a:xfrm>
            <a:off x="539640" y="285840"/>
            <a:ext cx="7920000" cy="5306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影响消费者的主要参照群体</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家庭成员</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同学、同事等同龄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区邻居</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亲戚朋友</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会团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名人专家</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903DE-4E7C-4984-BA93-94AEA4E0F89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矩形 3"/>
          <p:cNvSpPr/>
          <p:nvPr/>
        </p:nvSpPr>
        <p:spPr>
          <a:xfrm>
            <a:off x="1116000" y="404640"/>
            <a:ext cx="7385040" cy="5673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信息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规范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认同性影响</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程度</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的个性与自我形象</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选购商品的类型</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与群体的相关性</a:t>
            </a:r>
            <a:endParaRPr b="0" lang="en-US" sz="24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74AB4-83D4-4DDF-8190-06B37AF4BE8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矩形 3"/>
          <p:cNvSpPr/>
          <p:nvPr/>
        </p:nvSpPr>
        <p:spPr>
          <a:xfrm>
            <a:off x="611280" y="260280"/>
            <a:ext cx="7385040" cy="1742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p:txBody>
      </p:sp>
      <p:pic>
        <p:nvPicPr>
          <p:cNvPr id="223" name="Picture 2" descr=""/>
          <p:cNvPicPr/>
          <p:nvPr/>
        </p:nvPicPr>
        <p:blipFill>
          <a:blip r:embed="rId1"/>
          <a:stretch/>
        </p:blipFill>
        <p:spPr>
          <a:xfrm>
            <a:off x="1332000" y="2205000"/>
            <a:ext cx="6840360" cy="4319640"/>
          </a:xfrm>
          <a:prstGeom prst="rect">
            <a:avLst/>
          </a:prstGeom>
          <a:ln w="0">
            <a:noFill/>
          </a:ln>
        </p:spPr>
      </p:pic>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921CD-7A33-46FE-965A-B2CA43033BF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矩形 3"/>
          <p:cNvSpPr/>
          <p:nvPr/>
        </p:nvSpPr>
        <p:spPr>
          <a:xfrm>
            <a:off x="684360" y="404640"/>
            <a:ext cx="8135640" cy="440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概念</a:t>
            </a:r>
            <a:endParaRPr b="0" lang="en-US" sz="28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意见领袖又称为舆论领袖，是指在人际传播网络中经常为他人提供信息，同时对他人施加影响的“活跃分子”，他们在大众传播效果的形成过程中起着重要的中介或过滤的作用，由他们将信息扩散给受众，形成信息传递的两级传播（</a:t>
            </a:r>
            <a:r>
              <a:rPr b="0" lang="en-US" sz="2000" spc="-1" strike="noStrike">
                <a:solidFill>
                  <a:srgbClr val="000000"/>
                </a:solidFill>
                <a:latin typeface="Arial"/>
                <a:ea typeface="宋体"/>
              </a:rPr>
              <a:t>Lazasfeld</a:t>
            </a:r>
            <a:r>
              <a:rPr b="0" lang="zh-CN" sz="2000" spc="-1" strike="noStrike">
                <a:solidFill>
                  <a:srgbClr val="000000"/>
                </a:solidFill>
                <a:latin typeface="Arial"/>
                <a:ea typeface="宋体"/>
              </a:rPr>
              <a:t>等）</a:t>
            </a:r>
            <a:endParaRPr b="0" lang="en-US" sz="20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其他人的决策可以施展不同程度的影响的个人，其他人从这些人探寻意见和信息</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Rogers &amp; Cartano, 1962</a:t>
            </a:r>
            <a:r>
              <a:rPr b="0" lang="zh-CN" sz="2000" spc="-1" strike="noStrike">
                <a:solidFill>
                  <a:srgbClr val="000000"/>
                </a:solidFill>
                <a:latin typeface="Arial"/>
                <a:ea typeface="宋体"/>
              </a:rPr>
              <a:t>）</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DF370-7A56-4555-ACB4-5AB826B3A59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矩形 3"/>
          <p:cNvSpPr/>
          <p:nvPr/>
        </p:nvSpPr>
        <p:spPr>
          <a:xfrm>
            <a:off x="928800" y="857160"/>
            <a:ext cx="65008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群体特征与分类</a:t>
            </a:r>
            <a:endParaRPr b="0" lang="en-US" sz="3200" spc="-1" strike="noStrike">
              <a:solidFill>
                <a:srgbClr val="000000"/>
              </a:solidFill>
              <a:latin typeface="Arial"/>
            </a:endParaRPr>
          </a:p>
        </p:txBody>
      </p:sp>
      <p:sp>
        <p:nvSpPr>
          <p:cNvPr id="156" name="TextBox 4"/>
          <p:cNvSpPr/>
          <p:nvPr/>
        </p:nvSpPr>
        <p:spPr>
          <a:xfrm>
            <a:off x="1403280" y="2205000"/>
            <a:ext cx="6913800" cy="2473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的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主要消费者群体的心理与行为特征</a:t>
            </a:r>
            <a:endParaRPr b="0" lang="en-US" sz="3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415D8-124B-420A-AE8E-88B50DA89F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矩形 3"/>
          <p:cNvSpPr/>
          <p:nvPr/>
        </p:nvSpPr>
        <p:spPr>
          <a:xfrm>
            <a:off x="684360" y="404640"/>
            <a:ext cx="8135640" cy="532476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特征</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专业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创新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涉入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交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媒体使用特征</a:t>
            </a: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08BF4-9060-4EC7-BD5B-103E8FFF7E1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矩形 3"/>
          <p:cNvSpPr/>
          <p:nvPr/>
        </p:nvSpPr>
        <p:spPr>
          <a:xfrm>
            <a:off x="684360" y="404640"/>
            <a:ext cx="8135640" cy="56602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识别</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征识别法</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调查量表法</a:t>
            </a:r>
            <a:endParaRPr b="0" lang="en-US" sz="24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计量法（</a:t>
            </a:r>
            <a:r>
              <a:rPr b="0" lang="en-US" sz="2000" spc="-1" strike="noStrike">
                <a:solidFill>
                  <a:srgbClr val="000000"/>
                </a:solidFill>
                <a:latin typeface="黑体"/>
                <a:ea typeface="黑体"/>
              </a:rPr>
              <a:t>Sociometric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关键报告者法（</a:t>
            </a:r>
            <a:r>
              <a:rPr b="0" lang="en-US" sz="2000" spc="-1" strike="noStrike">
                <a:solidFill>
                  <a:srgbClr val="000000"/>
                </a:solidFill>
                <a:latin typeface="黑体"/>
                <a:ea typeface="黑体"/>
              </a:rPr>
              <a:t>Key Informant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我认定法（</a:t>
            </a:r>
            <a:r>
              <a:rPr b="0" lang="en-US" sz="2000" spc="-1" strike="noStrike">
                <a:solidFill>
                  <a:srgbClr val="000000"/>
                </a:solidFill>
                <a:latin typeface="黑体"/>
                <a:ea typeface="黑体"/>
              </a:rPr>
              <a:t>Self-Designating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观察法（</a:t>
            </a:r>
            <a:r>
              <a:rPr b="0" lang="en-US" sz="2000" spc="-1" strike="noStrike">
                <a:solidFill>
                  <a:srgbClr val="000000"/>
                </a:solidFill>
                <a:latin typeface="黑体"/>
                <a:ea typeface="黑体"/>
              </a:rPr>
              <a:t>Observation</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28A8F-A92D-43FE-B39F-C9F45688A24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a:t>
            </a:r>
            <a:endParaRPr b="0" lang="en-US" sz="2400" spc="-1" strike="noStrike">
              <a:solidFill>
                <a:srgbClr val="000000"/>
              </a:solidFill>
              <a:latin typeface="Arial"/>
            </a:endParaRPr>
          </a:p>
        </p:txBody>
      </p:sp>
      <p:pic>
        <p:nvPicPr>
          <p:cNvPr id="236" name="Picture 2" descr=""/>
          <p:cNvPicPr/>
          <p:nvPr/>
        </p:nvPicPr>
        <p:blipFill>
          <a:blip r:embed="rId1"/>
          <a:stretch/>
        </p:blipFill>
        <p:spPr>
          <a:xfrm>
            <a:off x="2484360" y="2421000"/>
            <a:ext cx="5759640" cy="3678120"/>
          </a:xfrm>
          <a:prstGeom prst="rect">
            <a:avLst/>
          </a:prstGeom>
          <a:ln w="0">
            <a:noFill/>
          </a:ln>
        </p:spPr>
      </p:pic>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74806-CD37-4398-8610-3AB082BC55C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9"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模式</a:t>
            </a:r>
            <a:endParaRPr b="0" lang="en-US" sz="2400" spc="-1" strike="noStrike">
              <a:solidFill>
                <a:srgbClr val="000000"/>
              </a:solidFill>
              <a:latin typeface="Arial"/>
            </a:endParaRPr>
          </a:p>
        </p:txBody>
      </p:sp>
      <p:pic>
        <p:nvPicPr>
          <p:cNvPr id="240" name="Picture 2" descr=""/>
          <p:cNvPicPr/>
          <p:nvPr/>
        </p:nvPicPr>
        <p:blipFill>
          <a:blip r:embed="rId1"/>
          <a:stretch/>
        </p:blipFill>
        <p:spPr>
          <a:xfrm>
            <a:off x="900000" y="2781360"/>
            <a:ext cx="7848720" cy="295128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998FB-85F6-4DC1-B8C3-A5FF47D1D86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3" name="矩形 3"/>
          <p:cNvSpPr/>
          <p:nvPr/>
        </p:nvSpPr>
        <p:spPr>
          <a:xfrm>
            <a:off x="684360" y="476280"/>
            <a:ext cx="8135640" cy="4881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作用</a:t>
            </a:r>
            <a:endParaRPr b="0" lang="en-US" sz="28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起到新信息的接收传递作用</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是新产品的早期采用者</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的信息是非商业性的</a:t>
            </a:r>
            <a:endParaRPr b="0" lang="en-US" sz="24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BFB00-9B1D-48E7-8507-C8F7576F327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6" name="矩形 3"/>
          <p:cNvSpPr/>
          <p:nvPr/>
        </p:nvSpPr>
        <p:spPr>
          <a:xfrm>
            <a:off x="195120" y="500040"/>
            <a:ext cx="84092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模仿、从众与消费流行</a:t>
            </a:r>
            <a:endParaRPr b="0" lang="en-US" sz="3200" spc="-1" strike="noStrike">
              <a:solidFill>
                <a:srgbClr val="000000"/>
              </a:solidFill>
              <a:latin typeface="Arial"/>
            </a:endParaRPr>
          </a:p>
        </p:txBody>
      </p:sp>
      <p:sp>
        <p:nvSpPr>
          <p:cNvPr id="247" name="矩形 4"/>
          <p:cNvSpPr/>
          <p:nvPr/>
        </p:nvSpPr>
        <p:spPr>
          <a:xfrm>
            <a:off x="1187280" y="2060640"/>
            <a:ext cx="5227920" cy="363564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模仿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从众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流行</a:t>
            </a:r>
            <a:endParaRPr b="0" lang="en-US" sz="3000" spc="-1" strike="noStrike">
              <a:solidFill>
                <a:srgbClr val="000000"/>
              </a:solidFill>
              <a:latin typeface="Arial"/>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878AC-C899-4376-91DA-54D7432F542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0" name="矩形 3"/>
          <p:cNvSpPr/>
          <p:nvPr/>
        </p:nvSpPr>
        <p:spPr>
          <a:xfrm>
            <a:off x="468360" y="260280"/>
            <a:ext cx="73184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模仿行为</a:t>
            </a:r>
            <a:endParaRPr b="0" lang="en-US" sz="3200" spc="-1" strike="noStrike">
              <a:solidFill>
                <a:srgbClr val="000000"/>
              </a:solidFill>
              <a:latin typeface="Arial"/>
            </a:endParaRPr>
          </a:p>
        </p:txBody>
      </p:sp>
      <p:sp>
        <p:nvSpPr>
          <p:cNvPr id="251" name="Rectangle 1"/>
          <p:cNvSpPr/>
          <p:nvPr/>
        </p:nvSpPr>
        <p:spPr>
          <a:xfrm>
            <a:off x="468360" y="1724760"/>
            <a:ext cx="7673760" cy="4110120"/>
          </a:xfrm>
          <a:prstGeom prst="rect">
            <a:avLst/>
          </a:prstGeom>
          <a:noFill/>
          <a:ln w="0">
            <a:noFill/>
          </a:ln>
        </p:spPr>
        <p:style>
          <a:lnRef idx="0"/>
          <a:fillRef idx="0"/>
          <a:effectRef idx="0"/>
          <a:fontRef idx="minor"/>
        </p:style>
        <p:txBody>
          <a:bodyPr lIns="90000" rIns="90000" tIns="177840" bIns="183960" anchor="ctr">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的概念</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观察和仿效其他个体的行为而改进自身技能和学会新技能的一种学习类型</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活动中模仿行为的特点</a:t>
            </a:r>
            <a:endParaRPr b="0" lang="en-US" sz="28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热衷于模仿的消费者，一般兴趣广泛，注意力易分散</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是消费者理性思考与感性冲动共同作用的结果</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行为具有普遍性</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并非一种强制性行为，即引起模仿的心理冲动是消费者自愿选择的结果</a:t>
            </a:r>
            <a:endParaRPr b="0" lang="en-US" sz="2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
        <p:nvSpPr>
          <p:cNvPr id="25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从众行为的定义</a:t>
            </a:r>
            <a:endParaRPr b="0" lang="en-US" sz="3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从众</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当他人从事某一活动时自己也去从事这一活动。按群体中多数人的意见行事，自己不另搞一套。</a:t>
            </a:r>
            <a:endParaRPr b="0" lang="en-US" sz="2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社会心理学指出，个体在群体中常常会不知不觉地受到群体的压力，而在知觉、判断、信仰以及行为上，表现出与群体中多数人一致的行为倾向，这就是从众现象，或称为从众行为。</a:t>
            </a:r>
            <a:endParaRPr b="0" lang="en-US" sz="2000" spc="-1" strike="noStrike">
              <a:solidFill>
                <a:srgbClr val="000000"/>
              </a:solidFill>
              <a:latin typeface="Arial"/>
            </a:endParaRPr>
          </a:p>
          <a:p>
            <a:pPr marL="343080" indent="30456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79714-E4A7-4DD8-B91E-9316E8D36AC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从众行为产生的因素分析</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体的特点</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群体的特点</a:t>
            </a:r>
            <a:endParaRPr b="0" lang="en-US" sz="2400" spc="-1" strike="noStrike">
              <a:solidFill>
                <a:srgbClr val="000000"/>
              </a:solidFill>
              <a:latin typeface="Arial"/>
            </a:endParaRPr>
          </a:p>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从众行为的特点</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往往是被动接受的过程</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现象涉及的范围有限</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发生的规模较大</a:t>
            </a:r>
            <a:endParaRPr b="0" lang="en-US" sz="2400" spc="-1" strike="noStrike">
              <a:solidFill>
                <a:srgbClr val="000000"/>
              </a:solidFill>
              <a:latin typeface="Arial"/>
            </a:endParaRPr>
          </a:p>
        </p:txBody>
      </p:sp>
      <p:sp>
        <p:nvSpPr>
          <p:cNvPr id="25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62013-D2D2-4EA1-B4B0-7C4E9000528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9"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CACFA-AFA2-462A-8B69-4E298E5B88F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
        <p:nvSpPr>
          <p:cNvPr id="26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定义</a:t>
            </a:r>
            <a:endParaRPr b="0" lang="en-US" sz="3000" spc="-1" strike="noStrike">
              <a:solidFill>
                <a:srgbClr val="000000"/>
              </a:solidFill>
              <a:latin typeface="Arial"/>
            </a:endParaRPr>
          </a:p>
          <a:p>
            <a:pPr lvl="1" marL="692280" indent="304560">
              <a:lnSpc>
                <a:spcPct val="150000"/>
              </a:lnSpc>
              <a:spcBef>
                <a:spcPts val="499"/>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流行是指一定时期内广为流传的生活方式。具体而言，是一个时期里相当多的人对特定的趣味、语言、思想和行为等各种模式的随从和追随</a:t>
            </a:r>
            <a:endParaRPr b="0" lang="en-US" sz="2000" spc="-1" strike="noStrike">
              <a:solidFill>
                <a:srgbClr val="000000"/>
              </a:solidFill>
              <a:latin typeface="Arial"/>
            </a:endParaRPr>
          </a:p>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方式</a:t>
            </a:r>
            <a:endParaRPr b="0" lang="en-US" sz="3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滴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横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逆流</a:t>
            </a:r>
            <a:endParaRPr b="0" lang="en-US" sz="2000" spc="-1" strike="noStrike">
              <a:solidFill>
                <a:srgbClr val="000000"/>
              </a:solidFill>
              <a:latin typeface="Arial"/>
            </a:endParaRPr>
          </a:p>
          <a:p>
            <a:pPr marL="343080" indent="30456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94920" y="259920"/>
            <a:ext cx="7543800" cy="941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的特征</a:t>
            </a:r>
            <a:endParaRPr b="1" lang="en-US" sz="3200" spc="-1" strike="noStrike">
              <a:solidFill>
                <a:srgbClr val="330066"/>
              </a:solidFill>
              <a:latin typeface="Arial"/>
            </a:endParaRPr>
          </a:p>
        </p:txBody>
      </p:sp>
      <p:sp>
        <p:nvSpPr>
          <p:cNvPr id="158" name=""/>
          <p:cNvSpPr txBox="1"/>
          <p:nvPr/>
        </p:nvSpPr>
        <p:spPr>
          <a:xfrm>
            <a:off x="468360" y="1412640"/>
            <a:ext cx="8424720" cy="4717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含义</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具有相同或者相近消费特征的消费者称为消费者群体。</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群体的形成是内在与外部因素共同作用的结果。</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类型</a:t>
            </a:r>
            <a:endParaRPr b="0" lang="en-US" sz="30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地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人口统计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心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者对商品的现实反映划分</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ADC79-22B1-44DC-AA92-6A61929B9B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流行的阶段及营销策略</a:t>
            </a:r>
            <a:endParaRPr b="0" lang="en-US" sz="28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初发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展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盛行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衰退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过时期</a:t>
            </a:r>
            <a:endParaRPr b="0" lang="en-US" sz="2400" spc="-1" strike="noStrike">
              <a:solidFill>
                <a:srgbClr val="000000"/>
              </a:solidFill>
              <a:latin typeface="Arial"/>
            </a:endParaRPr>
          </a:p>
        </p:txBody>
      </p:sp>
      <p:sp>
        <p:nvSpPr>
          <p:cNvPr id="2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3D5E6-1E8C-42A7-9A1D-7ECB775E2E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7"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393D9-31CC-4538-85F9-AA210799C58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矩形 3"/>
          <p:cNvSpPr/>
          <p:nvPr/>
        </p:nvSpPr>
        <p:spPr>
          <a:xfrm>
            <a:off x="-612720" y="620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4" name="TextBox 4"/>
          <p:cNvSpPr/>
          <p:nvPr/>
        </p:nvSpPr>
        <p:spPr>
          <a:xfrm>
            <a:off x="900000" y="1773360"/>
            <a:ext cx="6354720" cy="428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49065-3F20-449E-9A21-09509C234E9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8"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5"/>
          <p:cNvSpPr/>
          <p:nvPr/>
        </p:nvSpPr>
        <p:spPr>
          <a:xfrm>
            <a:off x="1692360" y="2492280"/>
            <a:ext cx="6912000" cy="4757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儿童消费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从纯生理性需要逐渐发展为带有社会性的需要；</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从模仿型消费发展为带有个性特点的消费；</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消费情绪从不稳定发展到比较稳定</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少年消费者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自我概念形成，独立性增强。</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购买倾向性开始确立，购买行为趋向确定。</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受影响的范围逐渐扩大</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0EB2D-4D50-458F-8860-CF33DC52E46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3"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5"/>
          <p:cNvSpPr/>
          <p:nvPr/>
        </p:nvSpPr>
        <p:spPr>
          <a:xfrm>
            <a:off x="1979640" y="2637000"/>
            <a:ext cx="6624720" cy="247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敏感性强，追求时尚潮流，是新商品的创新采用者</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个性，注重表现自我</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注重情感，消费冲动性强</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行为日渐成熟，趋向追求实用</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B7372-4D06-48E6-B1A1-5E6AFCC3D5E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5"/>
          <p:cNvSpPr/>
          <p:nvPr/>
        </p:nvSpPr>
        <p:spPr>
          <a:xfrm>
            <a:off x="1979640" y="3284640"/>
            <a:ext cx="662472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角色的多重性和消费行为的复杂性</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量入为出，计划性强，消费理性</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6DE5C-50B9-4251-BEA9-D2AAE73CDFA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3"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5"/>
          <p:cNvSpPr/>
          <p:nvPr/>
        </p:nvSpPr>
        <p:spPr>
          <a:xfrm>
            <a:off x="1979640" y="3284640"/>
            <a:ext cx="662472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习惯稳定，品牌忠诚度高</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选购商品注重实用</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求结构呈现老龄化特征</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部分老年消费者抱有补偿性消费动机</a:t>
            </a:r>
            <a:endParaRPr b="0" lang="en-US" sz="2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0741E-025A-48F6-83F3-9B5C449D8AB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性别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女性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5"/>
          <p:cNvSpPr/>
          <p:nvPr/>
        </p:nvSpPr>
        <p:spPr>
          <a:xfrm>
            <a:off x="1979640" y="3284640"/>
            <a:ext cx="6624720" cy="173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非理性，氛围心情是主导</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商品的实用性和细节设计</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较强的自我意识</a:t>
            </a:r>
            <a:endParaRPr b="0" lang="en-US" sz="2400" spc="-1" strike="noStrike">
              <a:solidFill>
                <a:srgbClr val="000000"/>
              </a:solidFill>
              <a:latin typeface="Arial"/>
            </a:endParaRPr>
          </a:p>
        </p:txBody>
      </p:sp>
      <p:sp>
        <p:nvSpPr>
          <p:cNvPr id="190" name="矩形 6"/>
          <p:cNvSpPr/>
          <p:nvPr/>
        </p:nvSpPr>
        <p:spPr>
          <a:xfrm>
            <a:off x="1053720" y="5229360"/>
            <a:ext cx="2203920" cy="642600"/>
          </a:xfrm>
          <a:prstGeom prst="rect">
            <a:avLst/>
          </a:prstGeom>
          <a:noFill/>
          <a:ln w="0">
            <a:noFill/>
          </a:ln>
        </p:spPr>
        <p:style>
          <a:lnRef idx="0"/>
          <a:fillRef idx="0"/>
          <a:effectRef idx="0"/>
          <a:fontRef idx="minor"/>
        </p:style>
        <p:txBody>
          <a:bodyPr wrap="none" lIns="90000" rIns="90000" tIns="46800" bIns="46800" anchor="t">
            <a:spAutoFit/>
          </a:bodyPr>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男性消费者群体</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0:49:13Z</dcterms:modified>
  <cp:revision>130</cp:revision>
  <dc:subject/>
  <dc:title>PowerPoint 演示文稿</dc:title>
</cp:coreProperties>
</file>